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move the slide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37C3E-E92E-40B4-BFE0-BD2A0B57E9F3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8CFF0-BE68-42BF-A67A-8A8F960365C3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42475-643C-4526-8EAF-CF8A32C4CC9D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F73EB-E7EF-49FB-8791-731F69D7291E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F1776-7D92-448F-8FF2-519E88486456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AB832-EE17-4D68-819D-F0CCBB2FE714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FDDB3-5699-4039-89D8-ACEF7CA7FFEC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7A82D-D3E9-45B3-B2A8-51507906577E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48F34-A1B2-4E69-A0E8-250FEC6722F4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15E6A-A453-42DD-9DCD-393235990684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7A1DC-2264-41CD-8E1F-3CD18ADF7B79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B3BC8-B4BD-4D1D-A5C3-8AB1A3D49C33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CBCD2-3DEA-41A1-88CD-7430B6F0E483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DD08E-3C95-4B1A-BA15-E909C347F24C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5AE11-427F-4E98-9BCE-0BF0E2C41C6C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787E7-FEF8-48D4-AFA9-58956D1544CE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B8307-91FD-46F5-8DD0-1655431D3B56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2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D5193-36C4-454D-9493-3E4A19E6AF4F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98A5D-A537-4DF9-89E1-70AE2E778ECD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0AD41-330F-492A-8888-488CD59E225C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4BBCF-0FE9-44AD-89D6-0276EFE00A6D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A230-DAF0-4002-9350-07FB8B160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E810-D78C-4E86-9362-D39C41863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F988-FF08-4C4A-BB4C-D185BC316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A67E-2314-441D-98D8-8573C1809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E60B-43BA-4078-847F-F8397B837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8BFF-5056-4BA6-8B15-4D8706E78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37FC-B60B-4EAD-AF7F-2B5B97048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CA4B-9FFC-48BF-A423-E9683C4B7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4245-22CF-4C75-8CB0-6A2BFCE4F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FE0A-B3EF-4F8B-9796-B90BE08BE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34A4-1865-44DB-97D6-83C2776CF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0599-92AB-4228-8D95-24D58B3A6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Freeform 6"/>
          <p:cNvSpPr/>
          <p:nvPr/>
        </p:nvSpPr>
        <p:spPr>
          <a:xfrm>
            <a:off x="685800" y="380880"/>
            <a:ext cx="8229600" cy="60984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Imagem 6" descr="borda_slide.png"/>
          <p:cNvPicPr/>
          <p:nvPr/>
        </p:nvPicPr>
        <p:blipFill>
          <a:blip r:embed="rId2"/>
          <a:stretch/>
        </p:blipFill>
        <p:spPr>
          <a:xfrm>
            <a:off x="0" y="258840"/>
            <a:ext cx="431640" cy="6608520"/>
          </a:xfrm>
          <a:prstGeom prst="rect">
            <a:avLst/>
          </a:prstGeom>
          <a:ln w="0">
            <a:noFill/>
          </a:ln>
        </p:spPr>
      </p:pic>
      <p:pic>
        <p:nvPicPr>
          <p:cNvPr id="4" name="Imagem 6" descr="ìnpe_simbolo.jpg"/>
          <p:cNvPicPr/>
          <p:nvPr/>
        </p:nvPicPr>
        <p:blipFill>
          <a:blip r:embed="rId3"/>
          <a:stretch/>
        </p:blipFill>
        <p:spPr>
          <a:xfrm>
            <a:off x="0" y="0"/>
            <a:ext cx="571680" cy="42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6"/>
          <p:cNvSpPr/>
          <p:nvPr/>
        </p:nvSpPr>
        <p:spPr>
          <a:xfrm>
            <a:off x="685800" y="380880"/>
            <a:ext cx="8229600" cy="60984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Imagem 6" descr="borda_slide.png"/>
          <p:cNvPicPr/>
          <p:nvPr/>
        </p:nvPicPr>
        <p:blipFill>
          <a:blip r:embed="rId2"/>
          <a:stretch/>
        </p:blipFill>
        <p:spPr>
          <a:xfrm>
            <a:off x="0" y="258840"/>
            <a:ext cx="431640" cy="6608520"/>
          </a:xfrm>
          <a:prstGeom prst="rect">
            <a:avLst/>
          </a:prstGeom>
          <a:ln w="0">
            <a:noFill/>
          </a:ln>
        </p:spPr>
      </p:pic>
      <p:pic>
        <p:nvPicPr>
          <p:cNvPr id="43" name="Imagem 6" descr="ìnpe_simbolo.jpg"/>
          <p:cNvPicPr/>
          <p:nvPr/>
        </p:nvPicPr>
        <p:blipFill>
          <a:blip r:embed="rId3"/>
          <a:stretch/>
        </p:blipFill>
        <p:spPr>
          <a:xfrm>
            <a:off x="0" y="0"/>
            <a:ext cx="571680" cy="4287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2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1716120" y="1690560"/>
            <a:ext cx="7427880" cy="2533680"/>
          </a:xfrm>
          <a:prstGeom prst="rect">
            <a:avLst/>
          </a:prstGeom>
          <a:solidFill>
            <a:srgbClr val="0847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4"/>
          <p:cNvGrpSpPr/>
          <p:nvPr/>
        </p:nvGrpSpPr>
        <p:grpSpPr>
          <a:xfrm>
            <a:off x="0" y="1066680"/>
            <a:ext cx="2867040" cy="3157560"/>
            <a:chOff x="0" y="1066680"/>
            <a:chExt cx="2867040" cy="3157560"/>
          </a:xfrm>
        </p:grpSpPr>
        <p:sp>
          <p:nvSpPr>
            <p:cNvPr id="47" name="Rectangle 5"/>
            <p:cNvSpPr/>
            <p:nvPr/>
          </p:nvSpPr>
          <p:spPr>
            <a:xfrm>
              <a:off x="573120" y="3583080"/>
              <a:ext cx="576360" cy="6411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6"/>
            <p:cNvSpPr/>
            <p:nvPr/>
          </p:nvSpPr>
          <p:spPr>
            <a:xfrm>
              <a:off x="1716120" y="1690560"/>
              <a:ext cx="574560" cy="6429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7"/>
            <p:cNvSpPr/>
            <p:nvPr/>
          </p:nvSpPr>
          <p:spPr>
            <a:xfrm>
              <a:off x="2281320" y="1066680"/>
              <a:ext cx="585720" cy="6350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8"/>
            <p:cNvSpPr/>
            <p:nvPr/>
          </p:nvSpPr>
          <p:spPr>
            <a:xfrm>
              <a:off x="1141560" y="3583080"/>
              <a:ext cx="583920" cy="6411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9"/>
            <p:cNvSpPr/>
            <p:nvPr/>
          </p:nvSpPr>
          <p:spPr>
            <a:xfrm>
              <a:off x="2281320" y="1690560"/>
              <a:ext cx="585720" cy="6429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0"/>
            <p:cNvSpPr/>
            <p:nvPr/>
          </p:nvSpPr>
          <p:spPr>
            <a:xfrm>
              <a:off x="1141560" y="2324160"/>
              <a:ext cx="583920" cy="633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1"/>
            <p:cNvSpPr/>
            <p:nvPr/>
          </p:nvSpPr>
          <p:spPr>
            <a:xfrm>
              <a:off x="0" y="2324160"/>
              <a:ext cx="582480" cy="633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2"/>
            <p:cNvSpPr/>
            <p:nvPr/>
          </p:nvSpPr>
          <p:spPr>
            <a:xfrm>
              <a:off x="1716120" y="2324160"/>
              <a:ext cx="574560" cy="633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3"/>
            <p:cNvSpPr/>
            <p:nvPr/>
          </p:nvSpPr>
          <p:spPr>
            <a:xfrm>
              <a:off x="573120" y="2948040"/>
              <a:ext cx="576360" cy="6444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4"/>
            <p:cNvSpPr/>
            <p:nvPr/>
          </p:nvSpPr>
          <p:spPr>
            <a:xfrm>
              <a:off x="1141560" y="2948040"/>
              <a:ext cx="583920" cy="644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" name="Picture 20" descr="logocomp"/>
          <p:cNvPicPr/>
          <p:nvPr/>
        </p:nvPicPr>
        <p:blipFill>
          <a:blip r:embed="rId4"/>
          <a:stretch/>
        </p:blipFill>
        <p:spPr>
          <a:xfrm>
            <a:off x="2438280" y="152280"/>
            <a:ext cx="5029200" cy="792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91231-9E56-4BBB-89B0-BFEB02D322CC}" type="slidenum">
              <a:rPr b="0" lang="pt-BR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Cellular Data</a:t>
            </a:r>
            <a:endParaRPr b="1" lang="en-US" sz="4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edro R. Andra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Semantics of input data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rcRect l="43913" t="28565" r="16795" b="29690"/>
          <a:stretch/>
        </p:blipFill>
        <p:spPr>
          <a:xfrm>
            <a:off x="5602320" y="2287440"/>
            <a:ext cx="2857320" cy="2428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pic>
        <p:nvPicPr>
          <p:cNvPr id="138" name="Picture 8" descr=""/>
          <p:cNvPicPr/>
          <p:nvPr/>
        </p:nvPicPr>
        <p:blipFill>
          <a:blip r:embed="rId2"/>
          <a:srcRect l="24611" t="19776" r="13281" b="29690"/>
          <a:stretch/>
        </p:blipFill>
        <p:spPr>
          <a:xfrm>
            <a:off x="958680" y="2287440"/>
            <a:ext cx="3841920" cy="2500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sp>
        <p:nvSpPr>
          <p:cNvPr id="139" name="TextBox 7"/>
          <p:cNvSpPr/>
          <p:nvPr/>
        </p:nvSpPr>
        <p:spPr>
          <a:xfrm>
            <a:off x="1316160" y="4930920"/>
            <a:ext cx="32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igital Elevation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5745240" y="493092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tegorical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Layer:fill with strategy “mode”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rcRect l="43913" t="28565" r="16795" b="29690"/>
          <a:stretch/>
        </p:blipFill>
        <p:spPr>
          <a:xfrm>
            <a:off x="620640" y="1968480"/>
            <a:ext cx="3446640" cy="29289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pic>
        <p:nvPicPr>
          <p:cNvPr id="143" name="Picture 2" descr=""/>
          <p:cNvPicPr/>
          <p:nvPr/>
        </p:nvPicPr>
        <p:blipFill>
          <a:blip r:embed="rId2"/>
          <a:srcRect l="43913" t="28565" r="16795" b="29690"/>
          <a:stretch/>
        </p:blipFill>
        <p:spPr>
          <a:xfrm>
            <a:off x="5589720" y="1989000"/>
            <a:ext cx="3446280" cy="29289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graphicFrame>
        <p:nvGraphicFramePr>
          <p:cNvPr id="144" name=""/>
          <p:cNvGraphicFramePr/>
          <p:nvPr/>
        </p:nvGraphicFramePr>
        <p:xfrm>
          <a:off x="5589720" y="1989000"/>
          <a:ext cx="3429000" cy="292896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</a:tblGrid>
              <a:tr h="731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3635280" y="5502240"/>
          <a:ext cx="2082960" cy="1327320"/>
        </p:xfrm>
        <a:graphic>
          <a:graphicData uri="http://schemas.openxmlformats.org/drawingml/2006/table">
            <a:tbl>
              <a:tblPr/>
              <a:tblGrid>
                <a:gridCol w="662040"/>
                <a:gridCol w="1420920"/>
              </a:tblGrid>
              <a:tr h="442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Class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Class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Class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46" name="Right Arrow 8"/>
          <p:cNvGrpSpPr/>
          <p:nvPr/>
        </p:nvGrpSpPr>
        <p:grpSpPr>
          <a:xfrm>
            <a:off x="4170240" y="3103560"/>
            <a:ext cx="1395360" cy="749160"/>
            <a:chOff x="4170240" y="3103560"/>
            <a:chExt cx="1395360" cy="749160"/>
          </a:xfrm>
        </p:grpSpPr>
        <p:pic>
          <p:nvPicPr>
            <p:cNvPr id="147" name="Right Arrow 8" descr=""/>
            <p:cNvPicPr/>
            <p:nvPr/>
          </p:nvPicPr>
          <p:blipFill>
            <a:blip r:embed="rId3"/>
            <a:stretch/>
          </p:blipFill>
          <p:spPr>
            <a:xfrm>
              <a:off x="4170240" y="3103560"/>
              <a:ext cx="139536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4222800" y="3292560"/>
              <a:ext cx="11239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Layer:fill with raster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rcRect l="43913" t="28565" r="16795" b="29690"/>
          <a:stretch/>
        </p:blipFill>
        <p:spPr>
          <a:xfrm>
            <a:off x="5589720" y="1989000"/>
            <a:ext cx="3446280" cy="29289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graphicFrame>
        <p:nvGraphicFramePr>
          <p:cNvPr id="151" name=""/>
          <p:cNvGraphicFramePr/>
          <p:nvPr/>
        </p:nvGraphicFramePr>
        <p:xfrm>
          <a:off x="5589720" y="1989000"/>
          <a:ext cx="3429000" cy="292896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</a:tblGrid>
              <a:tr h="731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3635280" y="5502240"/>
          <a:ext cx="2082960" cy="1327320"/>
        </p:xfrm>
        <a:graphic>
          <a:graphicData uri="http://schemas.openxmlformats.org/drawingml/2006/table">
            <a:tbl>
              <a:tblPr/>
              <a:tblGrid>
                <a:gridCol w="662040"/>
                <a:gridCol w="1420920"/>
              </a:tblGrid>
              <a:tr h="442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Class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Class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Class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Rectangle 3"/>
          <p:cNvSpPr/>
          <p:nvPr/>
        </p:nvSpPr>
        <p:spPr>
          <a:xfrm>
            <a:off x="755640" y="1413000"/>
            <a:ext cx="338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5580000" y="1413000"/>
            <a:ext cx="338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2"/>
          <a:srcRect l="43913" t="28565" r="16795" b="29690"/>
          <a:stretch/>
        </p:blipFill>
        <p:spPr>
          <a:xfrm>
            <a:off x="684360" y="1989000"/>
            <a:ext cx="3446280" cy="29289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graphicFrame>
        <p:nvGraphicFramePr>
          <p:cNvPr id="156" name=""/>
          <p:cNvGraphicFramePr/>
          <p:nvPr/>
        </p:nvGraphicFramePr>
        <p:xfrm>
          <a:off x="684360" y="1989000"/>
          <a:ext cx="3429000" cy="292896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</a:tblGrid>
              <a:tr h="731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Pixel within polygon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rcRect l="8404" t="30923" r="2931" b="20898"/>
          <a:stretch/>
        </p:blipFill>
        <p:spPr>
          <a:xfrm>
            <a:off x="608040" y="1574640"/>
            <a:ext cx="8532720" cy="40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Pixel within polygon - Overlap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60" name="Retângulo 1"/>
          <p:cNvSpPr/>
          <p:nvPr/>
        </p:nvSpPr>
        <p:spPr>
          <a:xfrm>
            <a:off x="2746440" y="2279520"/>
            <a:ext cx="1079280" cy="107964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tângulo 4"/>
          <p:cNvSpPr/>
          <p:nvPr/>
        </p:nvSpPr>
        <p:spPr>
          <a:xfrm>
            <a:off x="3832200" y="2276640"/>
            <a:ext cx="1079640" cy="107928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tângulo 5"/>
          <p:cNvSpPr/>
          <p:nvPr/>
        </p:nvSpPr>
        <p:spPr>
          <a:xfrm>
            <a:off x="2746440" y="3357720"/>
            <a:ext cx="1081080" cy="107928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tângulo 6"/>
          <p:cNvSpPr/>
          <p:nvPr/>
        </p:nvSpPr>
        <p:spPr>
          <a:xfrm>
            <a:off x="3832200" y="3355920"/>
            <a:ext cx="1081080" cy="107964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tângulo 7"/>
          <p:cNvSpPr/>
          <p:nvPr/>
        </p:nvSpPr>
        <p:spPr>
          <a:xfrm>
            <a:off x="4917960" y="2273400"/>
            <a:ext cx="1079640" cy="108108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tângulo 8"/>
          <p:cNvSpPr/>
          <p:nvPr/>
        </p:nvSpPr>
        <p:spPr>
          <a:xfrm>
            <a:off x="5997600" y="2273400"/>
            <a:ext cx="1081080" cy="108108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tângulo 9"/>
          <p:cNvSpPr/>
          <p:nvPr/>
        </p:nvSpPr>
        <p:spPr>
          <a:xfrm>
            <a:off x="4917960" y="3355920"/>
            <a:ext cx="1079640" cy="107964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tângulo 10"/>
          <p:cNvSpPr/>
          <p:nvPr/>
        </p:nvSpPr>
        <p:spPr>
          <a:xfrm>
            <a:off x="5997600" y="3354480"/>
            <a:ext cx="1081080" cy="107928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Conector de seta reta 11"/>
          <p:cNvCxnSpPr/>
          <p:nvPr/>
        </p:nvCxnSpPr>
        <p:spPr>
          <a:xfrm>
            <a:off x="2555640" y="1844280"/>
            <a:ext cx="361080" cy="57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9" name="Conector de seta reta 14"/>
          <p:cNvCxnSpPr>
            <a:stCxn id="170" idx="0"/>
            <a:endCxn id="171" idx="2"/>
          </p:cNvCxnSpPr>
          <p:nvPr/>
        </p:nvCxnSpPr>
        <p:spPr>
          <a:xfrm flipV="1">
            <a:off x="3822480" y="4868640"/>
            <a:ext cx="2916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72" name="CaixaDeTexto 15"/>
          <p:cNvSpPr/>
          <p:nvPr/>
        </p:nvSpPr>
        <p:spPr>
          <a:xfrm>
            <a:off x="1974960" y="145584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ix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CaixaDeTexto 18"/>
          <p:cNvSpPr/>
          <p:nvPr/>
        </p:nvSpPr>
        <p:spPr>
          <a:xfrm>
            <a:off x="2556000" y="5392800"/>
            <a:ext cx="25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ell with 6 pix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CaixaDeTexto 21"/>
          <p:cNvSpPr/>
          <p:nvPr/>
        </p:nvSpPr>
        <p:spPr>
          <a:xfrm>
            <a:off x="5580000" y="5403960"/>
            <a:ext cx="253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ell with 4 pix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Conector de seta reta 22"/>
          <p:cNvCxnSpPr>
            <a:stCxn id="173" idx="0"/>
            <a:endCxn id="175" idx="2"/>
          </p:cNvCxnSpPr>
          <p:nvPr/>
        </p:nvCxnSpPr>
        <p:spPr>
          <a:xfrm flipH="1" flipV="1">
            <a:off x="6443280" y="4868640"/>
            <a:ext cx="403920" cy="535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75" name="Retângulo 12"/>
          <p:cNvSpPr/>
          <p:nvPr/>
        </p:nvSpPr>
        <p:spPr>
          <a:xfrm>
            <a:off x="5148360" y="2133720"/>
            <a:ext cx="2592360" cy="2735280"/>
          </a:xfrm>
          <a:prstGeom prst="rect">
            <a:avLst/>
          </a:prstGeom>
          <a:solidFill>
            <a:srgbClr val="ffff00">
              <a:alpha val="18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tângulo 2"/>
          <p:cNvSpPr/>
          <p:nvPr/>
        </p:nvSpPr>
        <p:spPr>
          <a:xfrm>
            <a:off x="2556000" y="2133720"/>
            <a:ext cx="2592360" cy="2735280"/>
          </a:xfrm>
          <a:prstGeom prst="rect">
            <a:avLst/>
          </a:prstGeom>
          <a:solidFill>
            <a:srgbClr val="ffff00">
              <a:alpha val="18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tângulo 19"/>
          <p:cNvSpPr/>
          <p:nvPr/>
        </p:nvSpPr>
        <p:spPr>
          <a:xfrm>
            <a:off x="2746440" y="2279520"/>
            <a:ext cx="1079280" cy="107964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tângulo 20"/>
          <p:cNvSpPr/>
          <p:nvPr/>
        </p:nvSpPr>
        <p:spPr>
          <a:xfrm>
            <a:off x="3832200" y="2276640"/>
            <a:ext cx="1079640" cy="107928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tângulo 23"/>
          <p:cNvSpPr/>
          <p:nvPr/>
        </p:nvSpPr>
        <p:spPr>
          <a:xfrm>
            <a:off x="2746440" y="3357720"/>
            <a:ext cx="1081080" cy="107928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tângulo 24"/>
          <p:cNvSpPr/>
          <p:nvPr/>
        </p:nvSpPr>
        <p:spPr>
          <a:xfrm>
            <a:off x="3832200" y="3355920"/>
            <a:ext cx="1081080" cy="107964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tângulo 25"/>
          <p:cNvSpPr/>
          <p:nvPr/>
        </p:nvSpPr>
        <p:spPr>
          <a:xfrm>
            <a:off x="4917960" y="2273400"/>
            <a:ext cx="1079640" cy="108108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tângulo 26"/>
          <p:cNvSpPr/>
          <p:nvPr/>
        </p:nvSpPr>
        <p:spPr>
          <a:xfrm>
            <a:off x="5997600" y="2273400"/>
            <a:ext cx="1081080" cy="108108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tângulo 27"/>
          <p:cNvSpPr/>
          <p:nvPr/>
        </p:nvSpPr>
        <p:spPr>
          <a:xfrm>
            <a:off x="4917960" y="3355920"/>
            <a:ext cx="1079640" cy="107964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tângulo 28"/>
          <p:cNvSpPr/>
          <p:nvPr/>
        </p:nvSpPr>
        <p:spPr>
          <a:xfrm>
            <a:off x="5997600" y="3354480"/>
            <a:ext cx="1081080" cy="107928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tângulo 29"/>
          <p:cNvSpPr/>
          <p:nvPr/>
        </p:nvSpPr>
        <p:spPr>
          <a:xfrm>
            <a:off x="5148360" y="2133720"/>
            <a:ext cx="2592360" cy="2735280"/>
          </a:xfrm>
          <a:prstGeom prst="rect">
            <a:avLst/>
          </a:prstGeom>
          <a:solidFill>
            <a:srgbClr val="ffff00">
              <a:alpha val="18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tângulo 30"/>
          <p:cNvSpPr/>
          <p:nvPr/>
        </p:nvSpPr>
        <p:spPr>
          <a:xfrm>
            <a:off x="2556000" y="2133720"/>
            <a:ext cx="2592360" cy="2735280"/>
          </a:xfrm>
          <a:prstGeom prst="rect">
            <a:avLst/>
          </a:prstGeom>
          <a:solidFill>
            <a:srgbClr val="ffff00">
              <a:alpha val="18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Pixel within polygon - Centroid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cxnSp>
        <p:nvCxnSpPr>
          <p:cNvPr id="187" name="Conector de seta reta 11"/>
          <p:cNvCxnSpPr/>
          <p:nvPr/>
        </p:nvCxnSpPr>
        <p:spPr>
          <a:xfrm>
            <a:off x="2555640" y="1844280"/>
            <a:ext cx="361080" cy="57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8" name="Conector de seta reta 14"/>
          <p:cNvCxnSpPr>
            <a:stCxn id="189" idx="0"/>
          </p:cNvCxnSpPr>
          <p:nvPr/>
        </p:nvCxnSpPr>
        <p:spPr>
          <a:xfrm flipV="1">
            <a:off x="3822480" y="4868640"/>
            <a:ext cx="2916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0" name="CaixaDeTexto 15"/>
          <p:cNvSpPr/>
          <p:nvPr/>
        </p:nvSpPr>
        <p:spPr>
          <a:xfrm>
            <a:off x="1974960" y="145584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ix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CaixaDeTexto 18"/>
          <p:cNvSpPr/>
          <p:nvPr/>
        </p:nvSpPr>
        <p:spPr>
          <a:xfrm>
            <a:off x="2556000" y="5392800"/>
            <a:ext cx="25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ell with 4 pix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CaixaDeTexto 21"/>
          <p:cNvSpPr/>
          <p:nvPr/>
        </p:nvSpPr>
        <p:spPr>
          <a:xfrm>
            <a:off x="5580000" y="5403960"/>
            <a:ext cx="253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ell with 4 pix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Conector de seta reta 22"/>
          <p:cNvCxnSpPr>
            <a:stCxn id="191" idx="0"/>
          </p:cNvCxnSpPr>
          <p:nvPr/>
        </p:nvCxnSpPr>
        <p:spPr>
          <a:xfrm flipH="1" flipV="1">
            <a:off x="6443280" y="4868640"/>
            <a:ext cx="403920" cy="535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3" name="Elipse 3"/>
          <p:cNvSpPr/>
          <p:nvPr/>
        </p:nvSpPr>
        <p:spPr>
          <a:xfrm>
            <a:off x="4336920" y="386064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Elipse 31"/>
          <p:cNvSpPr/>
          <p:nvPr/>
        </p:nvSpPr>
        <p:spPr>
          <a:xfrm>
            <a:off x="3244680" y="276696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Elipse 32"/>
          <p:cNvSpPr/>
          <p:nvPr/>
        </p:nvSpPr>
        <p:spPr>
          <a:xfrm>
            <a:off x="3251160" y="3860640"/>
            <a:ext cx="7164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Elipse 34"/>
          <p:cNvSpPr/>
          <p:nvPr/>
        </p:nvSpPr>
        <p:spPr>
          <a:xfrm>
            <a:off x="4336920" y="276696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Elipse 35"/>
          <p:cNvSpPr/>
          <p:nvPr/>
        </p:nvSpPr>
        <p:spPr>
          <a:xfrm>
            <a:off x="6513480" y="3860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Elipse 36"/>
          <p:cNvSpPr/>
          <p:nvPr/>
        </p:nvSpPr>
        <p:spPr>
          <a:xfrm>
            <a:off x="5421240" y="27669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Elipse 37"/>
          <p:cNvSpPr/>
          <p:nvPr/>
        </p:nvSpPr>
        <p:spPr>
          <a:xfrm>
            <a:off x="5427720" y="3860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Elipse 38"/>
          <p:cNvSpPr/>
          <p:nvPr/>
        </p:nvSpPr>
        <p:spPr>
          <a:xfrm>
            <a:off x="6513480" y="27669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tângulo 40"/>
          <p:cNvSpPr/>
          <p:nvPr/>
        </p:nvSpPr>
        <p:spPr>
          <a:xfrm>
            <a:off x="5148360" y="2133720"/>
            <a:ext cx="2592360" cy="273528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tângulo 41"/>
          <p:cNvSpPr/>
          <p:nvPr/>
        </p:nvSpPr>
        <p:spPr>
          <a:xfrm>
            <a:off x="2556000" y="2133720"/>
            <a:ext cx="2592360" cy="273528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tângulo 42"/>
          <p:cNvSpPr/>
          <p:nvPr/>
        </p:nvSpPr>
        <p:spPr>
          <a:xfrm>
            <a:off x="2746440" y="2279520"/>
            <a:ext cx="1079280" cy="1079640"/>
          </a:xfrm>
          <a:prstGeom prst="rect">
            <a:avLst/>
          </a:prstGeom>
          <a:solidFill>
            <a:srgbClr val="f3f68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tângulo 43"/>
          <p:cNvSpPr/>
          <p:nvPr/>
        </p:nvSpPr>
        <p:spPr>
          <a:xfrm>
            <a:off x="3832200" y="2276640"/>
            <a:ext cx="1079640" cy="1079280"/>
          </a:xfrm>
          <a:prstGeom prst="rect">
            <a:avLst/>
          </a:prstGeom>
          <a:solidFill>
            <a:srgbClr val="f3f68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tângulo 44"/>
          <p:cNvSpPr/>
          <p:nvPr/>
        </p:nvSpPr>
        <p:spPr>
          <a:xfrm>
            <a:off x="2746440" y="3357720"/>
            <a:ext cx="1081080" cy="1079280"/>
          </a:xfrm>
          <a:prstGeom prst="rect">
            <a:avLst/>
          </a:prstGeom>
          <a:solidFill>
            <a:srgbClr val="f3f68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tângulo 45"/>
          <p:cNvSpPr/>
          <p:nvPr/>
        </p:nvSpPr>
        <p:spPr>
          <a:xfrm>
            <a:off x="3832200" y="3355920"/>
            <a:ext cx="1081080" cy="1079640"/>
          </a:xfrm>
          <a:prstGeom prst="rect">
            <a:avLst/>
          </a:prstGeom>
          <a:solidFill>
            <a:srgbClr val="f3f68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tângulo 46"/>
          <p:cNvSpPr/>
          <p:nvPr/>
        </p:nvSpPr>
        <p:spPr>
          <a:xfrm>
            <a:off x="4917960" y="2273400"/>
            <a:ext cx="1079640" cy="1081080"/>
          </a:xfrm>
          <a:prstGeom prst="rect">
            <a:avLst/>
          </a:prstGeom>
          <a:solidFill>
            <a:srgbClr val="f3f68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tângulo 47"/>
          <p:cNvSpPr/>
          <p:nvPr/>
        </p:nvSpPr>
        <p:spPr>
          <a:xfrm>
            <a:off x="5997600" y="2273400"/>
            <a:ext cx="1081080" cy="1081080"/>
          </a:xfrm>
          <a:prstGeom prst="rect">
            <a:avLst/>
          </a:prstGeom>
          <a:solidFill>
            <a:srgbClr val="f3f68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tângulo 48"/>
          <p:cNvSpPr/>
          <p:nvPr/>
        </p:nvSpPr>
        <p:spPr>
          <a:xfrm>
            <a:off x="4917960" y="3355920"/>
            <a:ext cx="1079640" cy="1079640"/>
          </a:xfrm>
          <a:prstGeom prst="rect">
            <a:avLst/>
          </a:prstGeom>
          <a:solidFill>
            <a:srgbClr val="f3f68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tângulo 49"/>
          <p:cNvSpPr/>
          <p:nvPr/>
        </p:nvSpPr>
        <p:spPr>
          <a:xfrm>
            <a:off x="5997600" y="3354480"/>
            <a:ext cx="1081080" cy="1079280"/>
          </a:xfrm>
          <a:prstGeom prst="rect">
            <a:avLst/>
          </a:prstGeom>
          <a:solidFill>
            <a:srgbClr val="f3f68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Pixel within polygon - Overlap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cxnSp>
        <p:nvCxnSpPr>
          <p:cNvPr id="212" name="Conector de seta reta 11"/>
          <p:cNvCxnSpPr/>
          <p:nvPr/>
        </p:nvCxnSpPr>
        <p:spPr>
          <a:xfrm>
            <a:off x="2556000" y="1844640"/>
            <a:ext cx="7200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3" name="Conector de seta reta 14"/>
          <p:cNvCxnSpPr>
            <a:stCxn id="214" idx="0"/>
          </p:cNvCxnSpPr>
          <p:nvPr/>
        </p:nvCxnSpPr>
        <p:spPr>
          <a:xfrm flipH="1" flipV="1">
            <a:off x="3287520" y="4436280"/>
            <a:ext cx="535680" cy="95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5" name="CaixaDeTexto 15"/>
          <p:cNvSpPr/>
          <p:nvPr/>
        </p:nvSpPr>
        <p:spPr>
          <a:xfrm>
            <a:off x="1974960" y="145584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ix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CaixaDeTexto 18"/>
          <p:cNvSpPr/>
          <p:nvPr/>
        </p:nvSpPr>
        <p:spPr>
          <a:xfrm>
            <a:off x="2556000" y="5392800"/>
            <a:ext cx="25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ells with 1 pix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CaixaDeTexto 21"/>
          <p:cNvSpPr/>
          <p:nvPr/>
        </p:nvSpPr>
        <p:spPr>
          <a:xfrm>
            <a:off x="5580000" y="540396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ells with 2 pix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7" name="Conector de seta reta 22"/>
          <p:cNvCxnSpPr>
            <a:stCxn id="216" idx="0"/>
          </p:cNvCxnSpPr>
          <p:nvPr/>
        </p:nvCxnSpPr>
        <p:spPr>
          <a:xfrm flipH="1" flipV="1">
            <a:off x="5579280" y="4436640"/>
            <a:ext cx="1369080" cy="967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8" name="Conector de seta reta 20"/>
          <p:cNvCxnSpPr>
            <a:stCxn id="214" idx="0"/>
          </p:cNvCxnSpPr>
          <p:nvPr/>
        </p:nvCxnSpPr>
        <p:spPr>
          <a:xfrm flipV="1">
            <a:off x="3822840" y="4436280"/>
            <a:ext cx="545040" cy="95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9" name="Conector de seta reta 23"/>
          <p:cNvCxnSpPr>
            <a:stCxn id="214" idx="0"/>
          </p:cNvCxnSpPr>
          <p:nvPr/>
        </p:nvCxnSpPr>
        <p:spPr>
          <a:xfrm flipH="1" flipV="1">
            <a:off x="3287520" y="3338280"/>
            <a:ext cx="535680" cy="205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0" name="Conector de seta reta 26"/>
          <p:cNvCxnSpPr>
            <a:stCxn id="214" idx="0"/>
          </p:cNvCxnSpPr>
          <p:nvPr/>
        </p:nvCxnSpPr>
        <p:spPr>
          <a:xfrm flipV="1">
            <a:off x="3822840" y="3357000"/>
            <a:ext cx="605520" cy="2035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1" name="Conector de seta reta 31"/>
          <p:cNvCxnSpPr>
            <a:stCxn id="216" idx="0"/>
          </p:cNvCxnSpPr>
          <p:nvPr/>
        </p:nvCxnSpPr>
        <p:spPr>
          <a:xfrm flipH="1" flipV="1">
            <a:off x="5457600" y="3357360"/>
            <a:ext cx="1491120" cy="204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2" name="Conector de seta reta 34"/>
          <p:cNvCxnSpPr>
            <a:stCxn id="214" idx="0"/>
          </p:cNvCxnSpPr>
          <p:nvPr/>
        </p:nvCxnSpPr>
        <p:spPr>
          <a:xfrm flipV="1">
            <a:off x="3822840" y="4430520"/>
            <a:ext cx="2715120" cy="96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3" name="Conector de seta reta 37"/>
          <p:cNvCxnSpPr>
            <a:stCxn id="214" idx="0"/>
          </p:cNvCxnSpPr>
          <p:nvPr/>
        </p:nvCxnSpPr>
        <p:spPr>
          <a:xfrm flipV="1">
            <a:off x="3822480" y="3357000"/>
            <a:ext cx="2765880" cy="2035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tângulo 28"/>
          <p:cNvSpPr/>
          <p:nvPr/>
        </p:nvSpPr>
        <p:spPr>
          <a:xfrm>
            <a:off x="5148360" y="2133720"/>
            <a:ext cx="2592360" cy="273528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tângulo 29"/>
          <p:cNvSpPr/>
          <p:nvPr/>
        </p:nvSpPr>
        <p:spPr>
          <a:xfrm>
            <a:off x="2556000" y="2133720"/>
            <a:ext cx="2592360" cy="273528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tângulo 30"/>
          <p:cNvSpPr/>
          <p:nvPr/>
        </p:nvSpPr>
        <p:spPr>
          <a:xfrm>
            <a:off x="2746440" y="2279520"/>
            <a:ext cx="1079280" cy="1079640"/>
          </a:xfrm>
          <a:prstGeom prst="rect">
            <a:avLst/>
          </a:prstGeom>
          <a:solidFill>
            <a:srgbClr val="f3f68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tângulo 32"/>
          <p:cNvSpPr/>
          <p:nvPr/>
        </p:nvSpPr>
        <p:spPr>
          <a:xfrm>
            <a:off x="3832200" y="2276640"/>
            <a:ext cx="1079640" cy="1079280"/>
          </a:xfrm>
          <a:prstGeom prst="rect">
            <a:avLst/>
          </a:prstGeom>
          <a:solidFill>
            <a:srgbClr val="f3f68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tângulo 33"/>
          <p:cNvSpPr/>
          <p:nvPr/>
        </p:nvSpPr>
        <p:spPr>
          <a:xfrm>
            <a:off x="2746440" y="3357720"/>
            <a:ext cx="1081080" cy="1079280"/>
          </a:xfrm>
          <a:prstGeom prst="rect">
            <a:avLst/>
          </a:prstGeom>
          <a:solidFill>
            <a:srgbClr val="f3f68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tângulo 35"/>
          <p:cNvSpPr/>
          <p:nvPr/>
        </p:nvSpPr>
        <p:spPr>
          <a:xfrm>
            <a:off x="3832200" y="3355920"/>
            <a:ext cx="1081080" cy="1079640"/>
          </a:xfrm>
          <a:prstGeom prst="rect">
            <a:avLst/>
          </a:prstGeom>
          <a:solidFill>
            <a:srgbClr val="f3f68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tângulo 36"/>
          <p:cNvSpPr/>
          <p:nvPr/>
        </p:nvSpPr>
        <p:spPr>
          <a:xfrm>
            <a:off x="4917960" y="2273400"/>
            <a:ext cx="1079640" cy="1081080"/>
          </a:xfrm>
          <a:prstGeom prst="rect">
            <a:avLst/>
          </a:prstGeom>
          <a:solidFill>
            <a:srgbClr val="f3f68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tângulo 38"/>
          <p:cNvSpPr/>
          <p:nvPr/>
        </p:nvSpPr>
        <p:spPr>
          <a:xfrm>
            <a:off x="5997600" y="2273400"/>
            <a:ext cx="1081080" cy="1081080"/>
          </a:xfrm>
          <a:prstGeom prst="rect">
            <a:avLst/>
          </a:prstGeom>
          <a:solidFill>
            <a:srgbClr val="f3f68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tângulo 39"/>
          <p:cNvSpPr/>
          <p:nvPr/>
        </p:nvSpPr>
        <p:spPr>
          <a:xfrm>
            <a:off x="4917960" y="3355920"/>
            <a:ext cx="1079640" cy="1079640"/>
          </a:xfrm>
          <a:prstGeom prst="rect">
            <a:avLst/>
          </a:prstGeom>
          <a:solidFill>
            <a:srgbClr val="f3f68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tângulo 40"/>
          <p:cNvSpPr/>
          <p:nvPr/>
        </p:nvSpPr>
        <p:spPr>
          <a:xfrm>
            <a:off x="5997600" y="3354480"/>
            <a:ext cx="1081080" cy="1079280"/>
          </a:xfrm>
          <a:prstGeom prst="rect">
            <a:avLst/>
          </a:prstGeom>
          <a:solidFill>
            <a:srgbClr val="f3f68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Pixel within polygon - Centroid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cxnSp>
        <p:nvCxnSpPr>
          <p:cNvPr id="235" name="Conector de seta reta 11"/>
          <p:cNvCxnSpPr/>
          <p:nvPr/>
        </p:nvCxnSpPr>
        <p:spPr>
          <a:xfrm>
            <a:off x="2556000" y="1844640"/>
            <a:ext cx="7200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6" name="Conector de seta reta 14"/>
          <p:cNvCxnSpPr>
            <a:stCxn id="237" idx="0"/>
          </p:cNvCxnSpPr>
          <p:nvPr/>
        </p:nvCxnSpPr>
        <p:spPr>
          <a:xfrm flipH="1" flipV="1">
            <a:off x="3287520" y="4436640"/>
            <a:ext cx="3661200" cy="967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38" name="CaixaDeTexto 15"/>
          <p:cNvSpPr/>
          <p:nvPr/>
        </p:nvSpPr>
        <p:spPr>
          <a:xfrm>
            <a:off x="1974960" y="145584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ix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CaixaDeTexto 18"/>
          <p:cNvSpPr/>
          <p:nvPr/>
        </p:nvSpPr>
        <p:spPr>
          <a:xfrm>
            <a:off x="2556000" y="5392800"/>
            <a:ext cx="25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ells with 1 pix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CaixaDeTexto 21"/>
          <p:cNvSpPr/>
          <p:nvPr/>
        </p:nvSpPr>
        <p:spPr>
          <a:xfrm>
            <a:off x="5580000" y="540396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ells with 0 pix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Conector de seta reta 22"/>
          <p:cNvCxnSpPr>
            <a:stCxn id="237" idx="0"/>
          </p:cNvCxnSpPr>
          <p:nvPr/>
        </p:nvCxnSpPr>
        <p:spPr>
          <a:xfrm flipH="1" flipV="1">
            <a:off x="5579280" y="4436640"/>
            <a:ext cx="1369080" cy="967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1" name="Conector de seta reta 20"/>
          <p:cNvCxnSpPr>
            <a:stCxn id="239" idx="0"/>
          </p:cNvCxnSpPr>
          <p:nvPr/>
        </p:nvCxnSpPr>
        <p:spPr>
          <a:xfrm flipV="1">
            <a:off x="3822840" y="4436280"/>
            <a:ext cx="545040" cy="95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2" name="Conector de seta reta 23"/>
          <p:cNvCxnSpPr>
            <a:stCxn id="237" idx="0"/>
          </p:cNvCxnSpPr>
          <p:nvPr/>
        </p:nvCxnSpPr>
        <p:spPr>
          <a:xfrm flipH="1" flipV="1">
            <a:off x="3287520" y="3337920"/>
            <a:ext cx="3661200" cy="2066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3" name="Conector de seta reta 26"/>
          <p:cNvCxnSpPr>
            <a:stCxn id="237" idx="0"/>
          </p:cNvCxnSpPr>
          <p:nvPr/>
        </p:nvCxnSpPr>
        <p:spPr>
          <a:xfrm flipH="1" flipV="1">
            <a:off x="4427280" y="3357360"/>
            <a:ext cx="2521440" cy="204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4" name="Conector de seta reta 31"/>
          <p:cNvCxnSpPr>
            <a:stCxn id="237" idx="0"/>
          </p:cNvCxnSpPr>
          <p:nvPr/>
        </p:nvCxnSpPr>
        <p:spPr>
          <a:xfrm flipH="1" flipV="1">
            <a:off x="5457600" y="3357360"/>
            <a:ext cx="1491120" cy="204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5" name="Conector de seta reta 34"/>
          <p:cNvCxnSpPr>
            <a:stCxn id="239" idx="0"/>
          </p:cNvCxnSpPr>
          <p:nvPr/>
        </p:nvCxnSpPr>
        <p:spPr>
          <a:xfrm flipV="1">
            <a:off x="3822840" y="4430520"/>
            <a:ext cx="2715120" cy="96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6" name="Conector de seta reta 37"/>
          <p:cNvCxnSpPr>
            <a:stCxn id="237" idx="0"/>
          </p:cNvCxnSpPr>
          <p:nvPr/>
        </p:nvCxnSpPr>
        <p:spPr>
          <a:xfrm flipH="1" flipV="1">
            <a:off x="6587280" y="3357360"/>
            <a:ext cx="361080" cy="204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47" name="Elipse 41"/>
          <p:cNvSpPr/>
          <p:nvPr/>
        </p:nvSpPr>
        <p:spPr>
          <a:xfrm>
            <a:off x="3881520" y="345924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Elipse 42"/>
          <p:cNvSpPr/>
          <p:nvPr/>
        </p:nvSpPr>
        <p:spPr>
          <a:xfrm>
            <a:off x="6372360" y="345924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Layer:fill with strategy “coverage”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3419640" y="5502240"/>
          <a:ext cx="2082600" cy="1327320"/>
        </p:xfrm>
        <a:graphic>
          <a:graphicData uri="http://schemas.openxmlformats.org/drawingml/2006/table">
            <a:tbl>
              <a:tblPr/>
              <a:tblGrid>
                <a:gridCol w="661680"/>
                <a:gridCol w="1420920"/>
              </a:tblGrid>
              <a:tr h="442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Class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Class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Class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51" name="Picture 2" descr=""/>
          <p:cNvPicPr/>
          <p:nvPr/>
        </p:nvPicPr>
        <p:blipFill>
          <a:blip r:embed="rId1"/>
          <a:srcRect l="43913" t="28565" r="16795" b="29690"/>
          <a:stretch/>
        </p:blipFill>
        <p:spPr>
          <a:xfrm>
            <a:off x="5589720" y="1989000"/>
            <a:ext cx="3446280" cy="29289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graphicFrame>
        <p:nvGraphicFramePr>
          <p:cNvPr id="252" name=""/>
          <p:cNvGraphicFramePr/>
          <p:nvPr/>
        </p:nvGraphicFramePr>
        <p:xfrm>
          <a:off x="5589720" y="1989000"/>
          <a:ext cx="3429000" cy="292896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</a:tblGrid>
              <a:tr h="731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3" name="TextBox 11"/>
          <p:cNvSpPr/>
          <p:nvPr/>
        </p:nvSpPr>
        <p:spPr>
          <a:xfrm>
            <a:off x="5643720" y="1484280"/>
            <a:ext cx="32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Class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6221520" y="5950080"/>
            <a:ext cx="28875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Creates three attributes summing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ight Brace 1"/>
          <p:cNvSpPr/>
          <p:nvPr/>
        </p:nvSpPr>
        <p:spPr>
          <a:xfrm>
            <a:off x="5724360" y="5445000"/>
            <a:ext cx="287640" cy="1413000"/>
          </a:xfrm>
          <a:custGeom>
            <a:avLst/>
            <a:gdLst>
              <a:gd name="textAreaLeft" fmla="*/ 0 w 287640"/>
              <a:gd name="textAreaRight" fmla="*/ 103680 w 287640"/>
              <a:gd name="textAreaTop" fmla="*/ 7200 h 1413000"/>
              <a:gd name="textAreaBottom" fmla="*/ 1405800 h 141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84"/>
                  <a:pt x="10800" y="367"/>
                </a:cubicBezTo>
                <a:lnTo>
                  <a:pt x="10800" y="10433"/>
                </a:lnTo>
                <a:cubicBezTo>
                  <a:pt x="10800" y="10617"/>
                  <a:pt x="16200" y="10800"/>
                  <a:pt x="21600" y="10800"/>
                </a:cubicBezTo>
                <a:cubicBezTo>
                  <a:pt x="16200" y="10800"/>
                  <a:pt x="10800" y="10984"/>
                  <a:pt x="10800" y="11167"/>
                </a:cubicBezTo>
                <a:lnTo>
                  <a:pt x="10800" y="21233"/>
                </a:lnTo>
                <a:cubicBezTo>
                  <a:pt x="10800" y="21417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2" descr=""/>
          <p:cNvPicPr/>
          <p:nvPr/>
        </p:nvPicPr>
        <p:blipFill>
          <a:blip r:embed="rId2"/>
          <a:srcRect l="43913" t="28565" r="16795" b="29690"/>
          <a:stretch/>
        </p:blipFill>
        <p:spPr>
          <a:xfrm>
            <a:off x="684360" y="1989000"/>
            <a:ext cx="3446280" cy="29289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graphicFrame>
        <p:nvGraphicFramePr>
          <p:cNvPr id="257" name=""/>
          <p:cNvGraphicFramePr/>
          <p:nvPr/>
        </p:nvGraphicFramePr>
        <p:xfrm>
          <a:off x="684360" y="1989000"/>
          <a:ext cx="3429000" cy="292896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</a:tblGrid>
              <a:tr h="731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8" name="TextBox 11"/>
          <p:cNvSpPr/>
          <p:nvPr/>
        </p:nvSpPr>
        <p:spPr>
          <a:xfrm>
            <a:off x="736560" y="1484280"/>
            <a:ext cx="32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Class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"/>
          <p:cNvPicPr/>
          <p:nvPr/>
        </p:nvPicPr>
        <p:blipFill>
          <a:blip r:embed="rId1"/>
          <a:srcRect l="41681" t="16687" r="30950" b="57875"/>
          <a:stretch/>
        </p:blipFill>
        <p:spPr>
          <a:xfrm>
            <a:off x="3146400" y="4586400"/>
            <a:ext cx="2643120" cy="22143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Layer:fill with vectorial data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261" name="Picture 2" descr=""/>
          <p:cNvPicPr/>
          <p:nvPr/>
        </p:nvPicPr>
        <p:blipFill>
          <a:blip r:embed="rId2"/>
          <a:srcRect l="41681" t="16687" r="30950" b="57875"/>
          <a:stretch/>
        </p:blipFill>
        <p:spPr>
          <a:xfrm>
            <a:off x="971640" y="1773360"/>
            <a:ext cx="2643120" cy="22143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sp>
        <p:nvSpPr>
          <p:cNvPr id="262" name="Rectangle 15"/>
          <p:cNvSpPr/>
          <p:nvPr/>
        </p:nvSpPr>
        <p:spPr>
          <a:xfrm>
            <a:off x="1033560" y="3097080"/>
            <a:ext cx="785880" cy="8575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971640" y="1776240"/>
          <a:ext cx="2643120" cy="2214720"/>
        </p:xfrm>
        <a:graphic>
          <a:graphicData uri="http://schemas.openxmlformats.org/drawingml/2006/table">
            <a:tbl>
              <a:tblPr/>
              <a:tblGrid>
                <a:gridCol w="880920"/>
                <a:gridCol w="881280"/>
                <a:gridCol w="880920"/>
              </a:tblGrid>
              <a:tr h="73836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4" name="Rectangle 3"/>
          <p:cNvSpPr/>
          <p:nvPr/>
        </p:nvSpPr>
        <p:spPr>
          <a:xfrm>
            <a:off x="755640" y="1197000"/>
            <a:ext cx="338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pres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2" descr=""/>
          <p:cNvPicPr/>
          <p:nvPr/>
        </p:nvPicPr>
        <p:blipFill>
          <a:blip r:embed="rId3"/>
          <a:srcRect l="41681" t="16687" r="30950" b="57875"/>
          <a:stretch/>
        </p:blipFill>
        <p:spPr>
          <a:xfrm>
            <a:off x="5651640" y="1773360"/>
            <a:ext cx="2643120" cy="22143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graphicFrame>
        <p:nvGraphicFramePr>
          <p:cNvPr id="266" name=""/>
          <p:cNvGraphicFramePr/>
          <p:nvPr/>
        </p:nvGraphicFramePr>
        <p:xfrm>
          <a:off x="5667480" y="1773360"/>
          <a:ext cx="2643120" cy="2214360"/>
        </p:xfrm>
        <a:graphic>
          <a:graphicData uri="http://schemas.openxmlformats.org/drawingml/2006/table">
            <a:tbl>
              <a:tblPr/>
              <a:tblGrid>
                <a:gridCol w="880920"/>
                <a:gridCol w="881280"/>
                <a:gridCol w="880920"/>
              </a:tblGrid>
              <a:tr h="73800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7" name="Rectangle 3"/>
          <p:cNvSpPr/>
          <p:nvPr/>
        </p:nvSpPr>
        <p:spPr>
          <a:xfrm>
            <a:off x="5292720" y="1197000"/>
            <a:ext cx="3382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3152880" y="4581360"/>
          <a:ext cx="2643120" cy="2214720"/>
        </p:xfrm>
        <a:graphic>
          <a:graphicData uri="http://schemas.openxmlformats.org/drawingml/2006/table">
            <a:tbl>
              <a:tblPr/>
              <a:tblGrid>
                <a:gridCol w="880920"/>
                <a:gridCol w="881280"/>
                <a:gridCol w="880920"/>
              </a:tblGrid>
              <a:tr h="73836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836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800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69" name="Rectangle 3"/>
          <p:cNvSpPr/>
          <p:nvPr/>
        </p:nvSpPr>
        <p:spPr>
          <a:xfrm>
            <a:off x="2843280" y="4005360"/>
            <a:ext cx="3384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23"/>
          <p:cNvSpPr/>
          <p:nvPr/>
        </p:nvSpPr>
        <p:spPr>
          <a:xfrm>
            <a:off x="5559480" y="6581880"/>
            <a:ext cx="71280" cy="71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Imagem 5" descr="amazonia.png"/>
          <p:cNvPicPr/>
          <p:nvPr/>
        </p:nvPicPr>
        <p:blipFill>
          <a:blip r:embed="rId1"/>
          <a:stretch/>
        </p:blipFill>
        <p:spPr>
          <a:xfrm>
            <a:off x="611280" y="1017720"/>
            <a:ext cx="8424720" cy="594036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Data as input for model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Layer:fill with vectorial data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72" name="Rectangle 3"/>
          <p:cNvSpPr/>
          <p:nvPr/>
        </p:nvSpPr>
        <p:spPr>
          <a:xfrm>
            <a:off x="755640" y="1197000"/>
            <a:ext cx="338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5292720" y="1197000"/>
            <a:ext cx="3382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reeform 13"/>
          <p:cNvSpPr/>
          <p:nvPr/>
        </p:nvSpPr>
        <p:spPr>
          <a:xfrm>
            <a:off x="1328760" y="1700280"/>
            <a:ext cx="312840" cy="2520720"/>
          </a:xfrm>
          <a:custGeom>
            <a:avLst/>
            <a:gdLst/>
            <a:ahLst/>
            <a:rect l="l" t="t" r="r" b="b"/>
            <a:pathLst>
              <a:path w="368300" h="3462702">
                <a:moveTo>
                  <a:pt x="368300" y="0"/>
                </a:moveTo>
                <a:cubicBezTo>
                  <a:pt x="338667" y="29633"/>
                  <a:pt x="314269" y="65654"/>
                  <a:pt x="279400" y="88900"/>
                </a:cubicBezTo>
                <a:cubicBezTo>
                  <a:pt x="266700" y="97367"/>
                  <a:pt x="252594" y="104033"/>
                  <a:pt x="241300" y="114300"/>
                </a:cubicBezTo>
                <a:cubicBezTo>
                  <a:pt x="86760" y="254791"/>
                  <a:pt x="192983" y="180378"/>
                  <a:pt x="101600" y="241300"/>
                </a:cubicBezTo>
                <a:cubicBezTo>
                  <a:pt x="79717" y="328834"/>
                  <a:pt x="96706" y="276488"/>
                  <a:pt x="38100" y="393700"/>
                </a:cubicBezTo>
                <a:cubicBezTo>
                  <a:pt x="27219" y="426344"/>
                  <a:pt x="19079" y="447517"/>
                  <a:pt x="12700" y="482600"/>
                </a:cubicBezTo>
                <a:cubicBezTo>
                  <a:pt x="7345" y="512051"/>
                  <a:pt x="4233" y="541867"/>
                  <a:pt x="0" y="571500"/>
                </a:cubicBezTo>
                <a:cubicBezTo>
                  <a:pt x="4233" y="664633"/>
                  <a:pt x="5550" y="757945"/>
                  <a:pt x="12700" y="850900"/>
                </a:cubicBezTo>
                <a:cubicBezTo>
                  <a:pt x="15954" y="893203"/>
                  <a:pt x="29615" y="901619"/>
                  <a:pt x="38100" y="939800"/>
                </a:cubicBezTo>
                <a:cubicBezTo>
                  <a:pt x="52558" y="1004863"/>
                  <a:pt x="45405" y="1030611"/>
                  <a:pt x="76200" y="1092200"/>
                </a:cubicBezTo>
                <a:cubicBezTo>
                  <a:pt x="93133" y="1126067"/>
                  <a:pt x="115026" y="1157879"/>
                  <a:pt x="127000" y="1193800"/>
                </a:cubicBezTo>
                <a:cubicBezTo>
                  <a:pt x="140964" y="1235692"/>
                  <a:pt x="144852" y="1249842"/>
                  <a:pt x="165100" y="1295400"/>
                </a:cubicBezTo>
                <a:cubicBezTo>
                  <a:pt x="172789" y="1312700"/>
                  <a:pt x="180760" y="1329966"/>
                  <a:pt x="190500" y="1346200"/>
                </a:cubicBezTo>
                <a:cubicBezTo>
                  <a:pt x="206206" y="1372377"/>
                  <a:pt x="219714" y="1400814"/>
                  <a:pt x="241300" y="1422400"/>
                </a:cubicBezTo>
                <a:lnTo>
                  <a:pt x="279400" y="1460500"/>
                </a:lnTo>
                <a:cubicBezTo>
                  <a:pt x="309508" y="1611041"/>
                  <a:pt x="269934" y="1455075"/>
                  <a:pt x="317500" y="1562100"/>
                </a:cubicBezTo>
                <a:cubicBezTo>
                  <a:pt x="328374" y="1586566"/>
                  <a:pt x="342900" y="1638300"/>
                  <a:pt x="342900" y="1638300"/>
                </a:cubicBezTo>
                <a:cubicBezTo>
                  <a:pt x="338667" y="1689100"/>
                  <a:pt x="339594" y="1740597"/>
                  <a:pt x="330200" y="1790700"/>
                </a:cubicBezTo>
                <a:cubicBezTo>
                  <a:pt x="325275" y="1816965"/>
                  <a:pt x="260273" y="1909336"/>
                  <a:pt x="254000" y="1917700"/>
                </a:cubicBezTo>
                <a:cubicBezTo>
                  <a:pt x="241300" y="1934633"/>
                  <a:pt x="229675" y="1952429"/>
                  <a:pt x="215900" y="1968500"/>
                </a:cubicBezTo>
                <a:cubicBezTo>
                  <a:pt x="204211" y="1982137"/>
                  <a:pt x="188827" y="1992423"/>
                  <a:pt x="177800" y="2006600"/>
                </a:cubicBezTo>
                <a:cubicBezTo>
                  <a:pt x="159058" y="2030697"/>
                  <a:pt x="143933" y="2057400"/>
                  <a:pt x="127000" y="2082800"/>
                </a:cubicBezTo>
                <a:cubicBezTo>
                  <a:pt x="118533" y="2095500"/>
                  <a:pt x="106427" y="2106420"/>
                  <a:pt x="101600" y="2120900"/>
                </a:cubicBezTo>
                <a:lnTo>
                  <a:pt x="88900" y="2159000"/>
                </a:lnTo>
                <a:cubicBezTo>
                  <a:pt x="93133" y="2226733"/>
                  <a:pt x="91016" y="2295165"/>
                  <a:pt x="101600" y="2362200"/>
                </a:cubicBezTo>
                <a:cubicBezTo>
                  <a:pt x="103981" y="2377277"/>
                  <a:pt x="120987" y="2386271"/>
                  <a:pt x="127000" y="2400300"/>
                </a:cubicBezTo>
                <a:cubicBezTo>
                  <a:pt x="133876" y="2416343"/>
                  <a:pt x="132824" y="2435057"/>
                  <a:pt x="139700" y="2451100"/>
                </a:cubicBezTo>
                <a:cubicBezTo>
                  <a:pt x="145713" y="2465129"/>
                  <a:pt x="158274" y="2475548"/>
                  <a:pt x="165100" y="2489200"/>
                </a:cubicBezTo>
                <a:cubicBezTo>
                  <a:pt x="184109" y="2527218"/>
                  <a:pt x="176009" y="2547326"/>
                  <a:pt x="190500" y="2590800"/>
                </a:cubicBezTo>
                <a:cubicBezTo>
                  <a:pt x="242540" y="2746920"/>
                  <a:pt x="195309" y="2557634"/>
                  <a:pt x="228600" y="2679700"/>
                </a:cubicBezTo>
                <a:cubicBezTo>
                  <a:pt x="271570" y="2837258"/>
                  <a:pt x="237468" y="2731704"/>
                  <a:pt x="266700" y="2819400"/>
                </a:cubicBezTo>
                <a:cubicBezTo>
                  <a:pt x="262467" y="2899833"/>
                  <a:pt x="263597" y="2980729"/>
                  <a:pt x="254000" y="3060700"/>
                </a:cubicBezTo>
                <a:cubicBezTo>
                  <a:pt x="250810" y="3087283"/>
                  <a:pt x="228600" y="3136900"/>
                  <a:pt x="228600" y="3136900"/>
                </a:cubicBezTo>
                <a:cubicBezTo>
                  <a:pt x="224367" y="3196167"/>
                  <a:pt x="226226" y="3256186"/>
                  <a:pt x="215900" y="3314700"/>
                </a:cubicBezTo>
                <a:cubicBezTo>
                  <a:pt x="213247" y="3329731"/>
                  <a:pt x="200271" y="3341074"/>
                  <a:pt x="190500" y="3352800"/>
                </a:cubicBezTo>
                <a:cubicBezTo>
                  <a:pt x="179002" y="3366598"/>
                  <a:pt x="166198" y="3379402"/>
                  <a:pt x="152400" y="3390900"/>
                </a:cubicBezTo>
                <a:cubicBezTo>
                  <a:pt x="66237" y="3462702"/>
                  <a:pt x="141991" y="3388609"/>
                  <a:pt x="101600" y="3429000"/>
                </a:cubicBezTo>
              </a:path>
            </a:pathLst>
          </a:custGeom>
          <a:noFill/>
          <a:ln w="25560">
            <a:solidFill>
              <a:srgbClr val="9999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1042920" y="1700280"/>
          <a:ext cx="2928960" cy="2500200"/>
        </p:xfrm>
        <a:graphic>
          <a:graphicData uri="http://schemas.openxmlformats.org/drawingml/2006/table">
            <a:tbl>
              <a:tblPr/>
              <a:tblGrid>
                <a:gridCol w="976320"/>
                <a:gridCol w="976320"/>
                <a:gridCol w="976320"/>
              </a:tblGrid>
              <a:tr h="83340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340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340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9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Freeform 25"/>
          <p:cNvSpPr/>
          <p:nvPr/>
        </p:nvSpPr>
        <p:spPr>
          <a:xfrm>
            <a:off x="5219640" y="1987560"/>
            <a:ext cx="2820960" cy="2862360"/>
          </a:xfrm>
          <a:custGeom>
            <a:avLst/>
            <a:gdLst/>
            <a:ahLst/>
            <a:rect l="l" t="t" r="r" b="b"/>
            <a:pathLst>
              <a:path w="1440910" h="1553029">
                <a:moveTo>
                  <a:pt x="366853" y="319314"/>
                </a:moveTo>
                <a:cubicBezTo>
                  <a:pt x="332986" y="338666"/>
                  <a:pt x="285563" y="396244"/>
                  <a:pt x="236224" y="420914"/>
                </a:cubicBezTo>
                <a:cubicBezTo>
                  <a:pt x="216872" y="430590"/>
                  <a:pt x="194913" y="436242"/>
                  <a:pt x="178167" y="449943"/>
                </a:cubicBezTo>
                <a:cubicBezTo>
                  <a:pt x="141099" y="480272"/>
                  <a:pt x="110434" y="517676"/>
                  <a:pt x="76567" y="551543"/>
                </a:cubicBezTo>
                <a:lnTo>
                  <a:pt x="33024" y="595086"/>
                </a:lnTo>
                <a:cubicBezTo>
                  <a:pt x="27426" y="617477"/>
                  <a:pt x="3996" y="707288"/>
                  <a:pt x="3996" y="725714"/>
                </a:cubicBezTo>
                <a:cubicBezTo>
                  <a:pt x="3996" y="798447"/>
                  <a:pt x="0" y="873091"/>
                  <a:pt x="18510" y="943429"/>
                </a:cubicBezTo>
                <a:cubicBezTo>
                  <a:pt x="25475" y="969896"/>
                  <a:pt x="58756" y="980706"/>
                  <a:pt x="76567" y="1001486"/>
                </a:cubicBezTo>
                <a:cubicBezTo>
                  <a:pt x="87920" y="1014731"/>
                  <a:pt x="94243" y="1031784"/>
                  <a:pt x="105596" y="1045029"/>
                </a:cubicBezTo>
                <a:cubicBezTo>
                  <a:pt x="123407" y="1065809"/>
                  <a:pt x="145631" y="1082489"/>
                  <a:pt x="163653" y="1103086"/>
                </a:cubicBezTo>
                <a:cubicBezTo>
                  <a:pt x="347834" y="1313578"/>
                  <a:pt x="50479" y="988951"/>
                  <a:pt x="250739" y="1233714"/>
                </a:cubicBezTo>
                <a:cubicBezTo>
                  <a:pt x="336788" y="1338886"/>
                  <a:pt x="315672" y="1295591"/>
                  <a:pt x="395882" y="1364343"/>
                </a:cubicBezTo>
                <a:cubicBezTo>
                  <a:pt x="411467" y="1377701"/>
                  <a:pt x="422345" y="1396500"/>
                  <a:pt x="439424" y="1407886"/>
                </a:cubicBezTo>
                <a:cubicBezTo>
                  <a:pt x="452154" y="1416373"/>
                  <a:pt x="467709" y="1421270"/>
                  <a:pt x="482967" y="1422400"/>
                </a:cubicBezTo>
                <a:cubicBezTo>
                  <a:pt x="598865" y="1430985"/>
                  <a:pt x="715196" y="1432076"/>
                  <a:pt x="831310" y="1436914"/>
                </a:cubicBezTo>
                <a:cubicBezTo>
                  <a:pt x="855501" y="1446590"/>
                  <a:pt x="881788" y="1452134"/>
                  <a:pt x="903882" y="1465943"/>
                </a:cubicBezTo>
                <a:cubicBezTo>
                  <a:pt x="921288" y="1476822"/>
                  <a:pt x="931655" y="1496345"/>
                  <a:pt x="947424" y="1509486"/>
                </a:cubicBezTo>
                <a:cubicBezTo>
                  <a:pt x="984937" y="1540747"/>
                  <a:pt x="990872" y="1538482"/>
                  <a:pt x="1034510" y="1553029"/>
                </a:cubicBezTo>
                <a:cubicBezTo>
                  <a:pt x="1092567" y="1548191"/>
                  <a:pt x="1151555" y="1549940"/>
                  <a:pt x="1208682" y="1538514"/>
                </a:cubicBezTo>
                <a:cubicBezTo>
                  <a:pt x="1237131" y="1532824"/>
                  <a:pt x="1277747" y="1480960"/>
                  <a:pt x="1295767" y="1465943"/>
                </a:cubicBezTo>
                <a:cubicBezTo>
                  <a:pt x="1309168" y="1454776"/>
                  <a:pt x="1324796" y="1446590"/>
                  <a:pt x="1339310" y="1436914"/>
                </a:cubicBezTo>
                <a:cubicBezTo>
                  <a:pt x="1364857" y="1360273"/>
                  <a:pt x="1345337" y="1406104"/>
                  <a:pt x="1411882" y="1306286"/>
                </a:cubicBezTo>
                <a:lnTo>
                  <a:pt x="1440910" y="1262743"/>
                </a:lnTo>
                <a:cubicBezTo>
                  <a:pt x="1436072" y="1146629"/>
                  <a:pt x="1439230" y="1029904"/>
                  <a:pt x="1426396" y="914400"/>
                </a:cubicBezTo>
                <a:cubicBezTo>
                  <a:pt x="1424470" y="897063"/>
                  <a:pt x="1406732" y="885574"/>
                  <a:pt x="1397367" y="870857"/>
                </a:cubicBezTo>
                <a:cubicBezTo>
                  <a:pt x="1318933" y="747604"/>
                  <a:pt x="1342551" y="790253"/>
                  <a:pt x="1295767" y="696686"/>
                </a:cubicBezTo>
                <a:cubicBezTo>
                  <a:pt x="1300605" y="599924"/>
                  <a:pt x="1297751" y="502469"/>
                  <a:pt x="1310282" y="406400"/>
                </a:cubicBezTo>
                <a:cubicBezTo>
                  <a:pt x="1312538" y="389103"/>
                  <a:pt x="1338552" y="380284"/>
                  <a:pt x="1339310" y="362857"/>
                </a:cubicBezTo>
                <a:cubicBezTo>
                  <a:pt x="1341913" y="302978"/>
                  <a:pt x="1375298" y="108560"/>
                  <a:pt x="1295767" y="29029"/>
                </a:cubicBezTo>
                <a:cubicBezTo>
                  <a:pt x="1283432" y="16694"/>
                  <a:pt x="1266738" y="9676"/>
                  <a:pt x="1252224" y="0"/>
                </a:cubicBezTo>
                <a:cubicBezTo>
                  <a:pt x="1189329" y="4838"/>
                  <a:pt x="1125539" y="2889"/>
                  <a:pt x="1063539" y="14514"/>
                </a:cubicBezTo>
                <a:cubicBezTo>
                  <a:pt x="1030505" y="20708"/>
                  <a:pt x="999868" y="71476"/>
                  <a:pt x="976453" y="87086"/>
                </a:cubicBezTo>
                <a:cubicBezTo>
                  <a:pt x="963723" y="95573"/>
                  <a:pt x="947424" y="96762"/>
                  <a:pt x="932910" y="101600"/>
                </a:cubicBezTo>
                <a:cubicBezTo>
                  <a:pt x="918396" y="111276"/>
                  <a:pt x="901702" y="118294"/>
                  <a:pt x="889367" y="130629"/>
                </a:cubicBezTo>
                <a:cubicBezTo>
                  <a:pt x="877032" y="142964"/>
                  <a:pt x="875131" y="164927"/>
                  <a:pt x="860339" y="174172"/>
                </a:cubicBezTo>
                <a:cubicBezTo>
                  <a:pt x="772139" y="229297"/>
                  <a:pt x="516328" y="216046"/>
                  <a:pt x="482967" y="217714"/>
                </a:cubicBezTo>
                <a:cubicBezTo>
                  <a:pt x="473291" y="232228"/>
                  <a:pt x="461740" y="245655"/>
                  <a:pt x="453939" y="261257"/>
                </a:cubicBezTo>
                <a:cubicBezTo>
                  <a:pt x="447097" y="274941"/>
                  <a:pt x="447911" y="292070"/>
                  <a:pt x="439424" y="304800"/>
                </a:cubicBezTo>
                <a:cubicBezTo>
                  <a:pt x="428038" y="321879"/>
                  <a:pt x="400720" y="299962"/>
                  <a:pt x="366853" y="319314"/>
                </a:cubicBezTo>
                <a:close/>
              </a:path>
            </a:pathLst>
          </a:custGeom>
          <a:gradFill rotWithShape="0">
            <a:gsLst>
              <a:gs pos="0">
                <a:srgbClr val="ffe5e5"/>
              </a:gs>
              <a:gs pos="100000">
                <a:srgbClr val="ffa2a1"/>
              </a:gs>
            </a:gsLst>
            <a:lin ang="5400000"/>
          </a:gradFill>
          <a:ln w="9360">
            <a:solidFill>
              <a:srgbClr val="be4b48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reeform 27"/>
          <p:cNvSpPr/>
          <p:nvPr/>
        </p:nvSpPr>
        <p:spPr>
          <a:xfrm>
            <a:off x="7505640" y="1844640"/>
            <a:ext cx="1067040" cy="3122640"/>
          </a:xfrm>
          <a:custGeom>
            <a:avLst/>
            <a:gdLst/>
            <a:ahLst/>
            <a:rect l="l" t="t" r="r" b="b"/>
            <a:pathLst>
              <a:path w="1066800" h="3122915">
                <a:moveTo>
                  <a:pt x="7257" y="174171"/>
                </a:moveTo>
                <a:cubicBezTo>
                  <a:pt x="0" y="159657"/>
                  <a:pt x="33721" y="142015"/>
                  <a:pt x="50800" y="130629"/>
                </a:cubicBezTo>
                <a:cubicBezTo>
                  <a:pt x="63530" y="122142"/>
                  <a:pt x="80280" y="122141"/>
                  <a:pt x="94342" y="116114"/>
                </a:cubicBezTo>
                <a:cubicBezTo>
                  <a:pt x="114229" y="107591"/>
                  <a:pt x="132513" y="95609"/>
                  <a:pt x="152400" y="87086"/>
                </a:cubicBezTo>
                <a:cubicBezTo>
                  <a:pt x="166462" y="81059"/>
                  <a:pt x="181663" y="78063"/>
                  <a:pt x="195942" y="72571"/>
                </a:cubicBezTo>
                <a:cubicBezTo>
                  <a:pt x="378302" y="2432"/>
                  <a:pt x="283376" y="28941"/>
                  <a:pt x="399142" y="0"/>
                </a:cubicBezTo>
                <a:cubicBezTo>
                  <a:pt x="495904" y="4838"/>
                  <a:pt x="593359" y="1983"/>
                  <a:pt x="689428" y="14514"/>
                </a:cubicBezTo>
                <a:cubicBezTo>
                  <a:pt x="706726" y="16770"/>
                  <a:pt x="718178" y="34298"/>
                  <a:pt x="732971" y="43543"/>
                </a:cubicBezTo>
                <a:cubicBezTo>
                  <a:pt x="756893" y="58495"/>
                  <a:pt x="781742" y="71940"/>
                  <a:pt x="805542" y="87086"/>
                </a:cubicBezTo>
                <a:cubicBezTo>
                  <a:pt x="862208" y="123146"/>
                  <a:pt x="964427" y="187143"/>
                  <a:pt x="994228" y="246743"/>
                </a:cubicBezTo>
                <a:cubicBezTo>
                  <a:pt x="1003904" y="266095"/>
                  <a:pt x="1015221" y="284711"/>
                  <a:pt x="1023257" y="304800"/>
                </a:cubicBezTo>
                <a:cubicBezTo>
                  <a:pt x="1052718" y="378454"/>
                  <a:pt x="1052224" y="391579"/>
                  <a:pt x="1066800" y="464457"/>
                </a:cubicBezTo>
                <a:cubicBezTo>
                  <a:pt x="1061962" y="628952"/>
                  <a:pt x="1063479" y="793758"/>
                  <a:pt x="1052285" y="957943"/>
                </a:cubicBezTo>
                <a:cubicBezTo>
                  <a:pt x="1048929" y="1007168"/>
                  <a:pt x="1029377" y="1054128"/>
                  <a:pt x="1023257" y="1103086"/>
                </a:cubicBezTo>
                <a:cubicBezTo>
                  <a:pt x="1018419" y="1141791"/>
                  <a:pt x="1014528" y="1180626"/>
                  <a:pt x="1008742" y="1219200"/>
                </a:cubicBezTo>
                <a:cubicBezTo>
                  <a:pt x="1000011" y="1277407"/>
                  <a:pt x="979714" y="1393371"/>
                  <a:pt x="979714" y="1393371"/>
                </a:cubicBezTo>
                <a:cubicBezTo>
                  <a:pt x="974876" y="1698171"/>
                  <a:pt x="974032" y="2003061"/>
                  <a:pt x="965200" y="2307771"/>
                </a:cubicBezTo>
                <a:cubicBezTo>
                  <a:pt x="964571" y="2329481"/>
                  <a:pt x="941416" y="2441201"/>
                  <a:pt x="936171" y="2467429"/>
                </a:cubicBezTo>
                <a:cubicBezTo>
                  <a:pt x="931333" y="2602896"/>
                  <a:pt x="930384" y="2738557"/>
                  <a:pt x="921657" y="2873829"/>
                </a:cubicBezTo>
                <a:cubicBezTo>
                  <a:pt x="920672" y="2889096"/>
                  <a:pt x="913984" y="2903687"/>
                  <a:pt x="907142" y="2917371"/>
                </a:cubicBezTo>
                <a:cubicBezTo>
                  <a:pt x="899341" y="2932973"/>
                  <a:pt x="890449" y="2948579"/>
                  <a:pt x="878114" y="2960914"/>
                </a:cubicBezTo>
                <a:cubicBezTo>
                  <a:pt x="865779" y="2973249"/>
                  <a:pt x="849085" y="2980267"/>
                  <a:pt x="834571" y="2989943"/>
                </a:cubicBezTo>
                <a:cubicBezTo>
                  <a:pt x="781351" y="3069772"/>
                  <a:pt x="834571" y="3002038"/>
                  <a:pt x="762000" y="3062514"/>
                </a:cubicBezTo>
                <a:cubicBezTo>
                  <a:pt x="689519" y="3122915"/>
                  <a:pt x="751436" y="3095064"/>
                  <a:pt x="674914" y="3120571"/>
                </a:cubicBezTo>
                <a:cubicBezTo>
                  <a:pt x="631371" y="3115733"/>
                  <a:pt x="585848" y="3119911"/>
                  <a:pt x="544285" y="3106057"/>
                </a:cubicBezTo>
                <a:cubicBezTo>
                  <a:pt x="524812" y="3099566"/>
                  <a:pt x="517821" y="3073900"/>
                  <a:pt x="500742" y="3062514"/>
                </a:cubicBezTo>
                <a:cubicBezTo>
                  <a:pt x="488012" y="3054028"/>
                  <a:pt x="471714" y="3052838"/>
                  <a:pt x="457200" y="3048000"/>
                </a:cubicBezTo>
                <a:cubicBezTo>
                  <a:pt x="428171" y="3018971"/>
                  <a:pt x="383096" y="2999860"/>
                  <a:pt x="370114" y="2960914"/>
                </a:cubicBezTo>
                <a:cubicBezTo>
                  <a:pt x="355567" y="2917272"/>
                  <a:pt x="357835" y="2911345"/>
                  <a:pt x="326571" y="2873829"/>
                </a:cubicBezTo>
                <a:cubicBezTo>
                  <a:pt x="313430" y="2858060"/>
                  <a:pt x="301785" y="2838623"/>
                  <a:pt x="283028" y="2830286"/>
                </a:cubicBezTo>
                <a:cubicBezTo>
                  <a:pt x="256135" y="2818334"/>
                  <a:pt x="224971" y="2820609"/>
                  <a:pt x="195942" y="2815771"/>
                </a:cubicBezTo>
                <a:cubicBezTo>
                  <a:pt x="200780" y="2796419"/>
                  <a:pt x="200560" y="2775034"/>
                  <a:pt x="210457" y="2757714"/>
                </a:cubicBezTo>
                <a:cubicBezTo>
                  <a:pt x="220641" y="2739892"/>
                  <a:pt x="240859" y="2729940"/>
                  <a:pt x="254000" y="2714171"/>
                </a:cubicBezTo>
                <a:cubicBezTo>
                  <a:pt x="355036" y="2592928"/>
                  <a:pt x="199358" y="2754299"/>
                  <a:pt x="326571" y="2627086"/>
                </a:cubicBezTo>
                <a:cubicBezTo>
                  <a:pt x="359904" y="2493753"/>
                  <a:pt x="311730" y="2631123"/>
                  <a:pt x="384628" y="2540000"/>
                </a:cubicBezTo>
                <a:cubicBezTo>
                  <a:pt x="394185" y="2528053"/>
                  <a:pt x="392300" y="2510141"/>
                  <a:pt x="399142" y="2496457"/>
                </a:cubicBezTo>
                <a:cubicBezTo>
                  <a:pt x="406943" y="2480855"/>
                  <a:pt x="418495" y="2467428"/>
                  <a:pt x="428171" y="2452914"/>
                </a:cubicBezTo>
                <a:cubicBezTo>
                  <a:pt x="423333" y="2298095"/>
                  <a:pt x="422494" y="2143099"/>
                  <a:pt x="413657" y="1988457"/>
                </a:cubicBezTo>
                <a:cubicBezTo>
                  <a:pt x="412784" y="1973182"/>
                  <a:pt x="405984" y="1958598"/>
                  <a:pt x="399142" y="1944914"/>
                </a:cubicBezTo>
                <a:cubicBezTo>
                  <a:pt x="368020" y="1882670"/>
                  <a:pt x="371516" y="1915615"/>
                  <a:pt x="326571" y="1857829"/>
                </a:cubicBezTo>
                <a:cubicBezTo>
                  <a:pt x="305152" y="1830290"/>
                  <a:pt x="287866" y="1799772"/>
                  <a:pt x="268514" y="1770743"/>
                </a:cubicBezTo>
                <a:lnTo>
                  <a:pt x="239485" y="1727200"/>
                </a:lnTo>
                <a:lnTo>
                  <a:pt x="210457" y="1683657"/>
                </a:lnTo>
                <a:lnTo>
                  <a:pt x="181428" y="1640114"/>
                </a:lnTo>
                <a:cubicBezTo>
                  <a:pt x="176590" y="1625600"/>
                  <a:pt x="170940" y="1611331"/>
                  <a:pt x="166914" y="1596571"/>
                </a:cubicBezTo>
                <a:cubicBezTo>
                  <a:pt x="156417" y="1558081"/>
                  <a:pt x="137885" y="1480457"/>
                  <a:pt x="137885" y="1480457"/>
                </a:cubicBezTo>
                <a:cubicBezTo>
                  <a:pt x="142723" y="1315962"/>
                  <a:pt x="143972" y="1151322"/>
                  <a:pt x="152400" y="986971"/>
                </a:cubicBezTo>
                <a:cubicBezTo>
                  <a:pt x="153127" y="972795"/>
                  <a:pt x="169524" y="892284"/>
                  <a:pt x="181428" y="870857"/>
                </a:cubicBezTo>
                <a:cubicBezTo>
                  <a:pt x="198371" y="840359"/>
                  <a:pt x="239485" y="783771"/>
                  <a:pt x="239485" y="783771"/>
                </a:cubicBezTo>
                <a:cubicBezTo>
                  <a:pt x="234647" y="628952"/>
                  <a:pt x="254536" y="471361"/>
                  <a:pt x="224971" y="319314"/>
                </a:cubicBezTo>
                <a:cubicBezTo>
                  <a:pt x="218312" y="285067"/>
                  <a:pt x="162555" y="285927"/>
                  <a:pt x="137885" y="261257"/>
                </a:cubicBezTo>
                <a:cubicBezTo>
                  <a:pt x="123371" y="246743"/>
                  <a:pt x="110111" y="230855"/>
                  <a:pt x="94342" y="217714"/>
                </a:cubicBezTo>
                <a:cubicBezTo>
                  <a:pt x="68072" y="195822"/>
                  <a:pt x="14514" y="188685"/>
                  <a:pt x="7257" y="174171"/>
                </a:cubicBezTo>
                <a:close/>
              </a:path>
            </a:pathLst>
          </a:cu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5219640" y="1773360"/>
          <a:ext cx="3500640" cy="3500280"/>
        </p:xfrm>
        <a:graphic>
          <a:graphicData uri="http://schemas.openxmlformats.org/drawingml/2006/table">
            <a:tbl>
              <a:tblPr/>
              <a:tblGrid>
                <a:gridCol w="1166760"/>
                <a:gridCol w="1166760"/>
                <a:gridCol w="1167120"/>
              </a:tblGrid>
              <a:tr h="8744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Layer:fill with strategy “sum” (area = true)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280" name="Picture 39" descr=""/>
          <p:cNvPicPr/>
          <p:nvPr/>
        </p:nvPicPr>
        <p:blipFill>
          <a:blip r:embed="rId1">
            <a:lum contrast="20000"/>
          </a:blip>
          <a:srcRect l="0" t="0" r="61174" b="0"/>
          <a:stretch/>
        </p:blipFill>
        <p:spPr>
          <a:xfrm>
            <a:off x="1357200" y="1557360"/>
            <a:ext cx="2351160" cy="256536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8"/>
          <p:cNvSpPr/>
          <p:nvPr/>
        </p:nvSpPr>
        <p:spPr>
          <a:xfrm>
            <a:off x="1042920" y="4368960"/>
            <a:ext cx="7345440" cy="1557000"/>
          </a:xfrm>
          <a:prstGeom prst="rect">
            <a:avLst/>
          </a:prstGeom>
          <a:solidFill>
            <a:srgbClr val="f3f68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f(C)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is the new attribute for cell 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f(P)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is the input attribute for polygon 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a(I)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is the intersection area between polygon 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and cell 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a(P)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is the area of polygon 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39" descr=""/>
          <p:cNvPicPr/>
          <p:nvPr/>
        </p:nvPicPr>
        <p:blipFill>
          <a:blip r:embed="rId2"/>
          <a:srcRect l="49126" t="0" r="0" b="55797"/>
          <a:stretch/>
        </p:blipFill>
        <p:spPr>
          <a:xfrm>
            <a:off x="3786120" y="1986120"/>
            <a:ext cx="3571920" cy="1315800"/>
          </a:xfrm>
          <a:prstGeom prst="rect">
            <a:avLst/>
          </a:prstGeom>
          <a:ln w="0">
            <a:noFill/>
          </a:ln>
        </p:spPr>
      </p:pic>
      <p:sp>
        <p:nvSpPr>
          <p:cNvPr id="283" name="Rectangle 3"/>
          <p:cNvSpPr/>
          <p:nvPr/>
        </p:nvSpPr>
        <p:spPr>
          <a:xfrm>
            <a:off x="2916360" y="6237360"/>
            <a:ext cx="3384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(conserves ma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39" descr=""/>
          <p:cNvPicPr/>
          <p:nvPr/>
        </p:nvPicPr>
        <p:blipFill>
          <a:blip r:embed="rId1"/>
          <a:srcRect l="47797" t="51626" r="0" b="0"/>
          <a:stretch/>
        </p:blipFill>
        <p:spPr>
          <a:xfrm>
            <a:off x="3679920" y="2170080"/>
            <a:ext cx="3529080" cy="137340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Layer:fill with strategy “average” (area = true)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286" name="Picture 39" descr=""/>
          <p:cNvPicPr/>
          <p:nvPr/>
        </p:nvPicPr>
        <p:blipFill>
          <a:blip r:embed="rId2">
            <a:lum contrast="20000"/>
          </a:blip>
          <a:srcRect l="0" t="0" r="61174" b="0"/>
          <a:stretch/>
        </p:blipFill>
        <p:spPr>
          <a:xfrm>
            <a:off x="1357200" y="1557360"/>
            <a:ext cx="2351160" cy="256536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21"/>
          <p:cNvSpPr/>
          <p:nvPr/>
        </p:nvSpPr>
        <p:spPr>
          <a:xfrm>
            <a:off x="1042920" y="4368960"/>
            <a:ext cx="7345440" cy="1557000"/>
          </a:xfrm>
          <a:prstGeom prst="rect">
            <a:avLst/>
          </a:prstGeom>
          <a:solidFill>
            <a:srgbClr val="f3f68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f(C)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is the new attribute for cell 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f(P)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is the input attribute for polygon 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a(I)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is the intersection area between polygon 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and cell 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a(P)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is the area of polygon 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2916360" y="6237360"/>
            <a:ext cx="403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(does </a:t>
            </a:r>
            <a:r>
              <a:rPr b="1" lang="pt-BR" sz="24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not</a:t>
            </a:r>
            <a:r>
              <a:rPr b="0" lang="pt-BR" sz="24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 conserve ma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Rebuild Runoff database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684360" y="2205000"/>
            <a:ext cx="820872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Use “cabecadeboi.tif” and “cabecadeboi-box.shp” available in data of package g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Use resolution 200 to create the cellular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Update the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After simulation, create a new database with resolution 100 and run the simulation ag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3"/>
          <p:cNvSpPr/>
          <p:nvPr/>
        </p:nvSpPr>
        <p:spPr>
          <a:xfrm>
            <a:off x="684360" y="2205000"/>
            <a:ext cx="640872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Different repres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Different form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Different resolutions and ext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Different units of measu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Data as input for model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8460000" cy="15397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Homogenize data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684360" y="3645000"/>
            <a:ext cx="784836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539640" y="2997360"/>
            <a:ext cx="860436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A Cellular representation unifies different representations, formats, resolutions, and exten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Cells can be treated as samples or “objects” without needing to take into account their spatial represent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Helps statistics as well as model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Imagem 5" descr="amazonia.png"/>
          <p:cNvPicPr/>
          <p:nvPr/>
        </p:nvPicPr>
        <p:blipFill>
          <a:blip r:embed="rId1"/>
          <a:stretch/>
        </p:blipFill>
        <p:spPr>
          <a:xfrm>
            <a:off x="611280" y="1017720"/>
            <a:ext cx="8424720" cy="59403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Data from different sources and representation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Imagem 5" descr="AREA_INDIGENA.png"/>
          <p:cNvPicPr/>
          <p:nvPr/>
        </p:nvPicPr>
        <p:blipFill>
          <a:blip r:embed="rId1"/>
          <a:stretch/>
        </p:blipFill>
        <p:spPr>
          <a:xfrm>
            <a:off x="539640" y="1125360"/>
            <a:ext cx="4978440" cy="2901960"/>
          </a:xfrm>
          <a:prstGeom prst="rect">
            <a:avLst/>
          </a:prstGeom>
          <a:ln w="0">
            <a:noFill/>
          </a:ln>
        </p:spPr>
      </p:pic>
      <p:pic>
        <p:nvPicPr>
          <p:cNvPr id="119" name="Imagem 7" descr="DEFOR_10.png"/>
          <p:cNvPicPr/>
          <p:nvPr/>
        </p:nvPicPr>
        <p:blipFill>
          <a:blip r:embed="rId2"/>
          <a:stretch/>
        </p:blipFill>
        <p:spPr>
          <a:xfrm>
            <a:off x="560520" y="4149720"/>
            <a:ext cx="4690800" cy="273528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1"/>
          <p:cNvSpPr/>
          <p:nvPr/>
        </p:nvSpPr>
        <p:spPr>
          <a:xfrm>
            <a:off x="3421080" y="1197000"/>
            <a:ext cx="2590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Humnst777 BT"/>
              </a:rPr>
              <a:t>Protected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C:\Users\User\Desktop\FIGURAS\DIST_PORTOS.png"/>
          <p:cNvPicPr/>
          <p:nvPr/>
        </p:nvPicPr>
        <p:blipFill>
          <a:blip r:embed="rId3"/>
          <a:stretch/>
        </p:blipFill>
        <p:spPr>
          <a:xfrm>
            <a:off x="5016600" y="1052640"/>
            <a:ext cx="4127400" cy="29034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C:\Users\User\Desktop\FIGURAS\DIST_RODOVIAS.png"/>
          <p:cNvPicPr/>
          <p:nvPr/>
        </p:nvPicPr>
        <p:blipFill>
          <a:blip r:embed="rId4"/>
          <a:srcRect l="0" t="0" r="15384" b="0"/>
          <a:stretch/>
        </p:blipFill>
        <p:spPr>
          <a:xfrm>
            <a:off x="4932360" y="3983040"/>
            <a:ext cx="4211640" cy="290196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1"/>
          <p:cNvSpPr/>
          <p:nvPr/>
        </p:nvSpPr>
        <p:spPr>
          <a:xfrm>
            <a:off x="8029440" y="1125360"/>
            <a:ext cx="1150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Humnst777 BT"/>
              </a:rPr>
              <a:t>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7931160" y="4200480"/>
            <a:ext cx="961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Humnst777 BT"/>
              </a:rPr>
              <a:t>Ro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"/>
          <p:cNvSpPr/>
          <p:nvPr/>
        </p:nvSpPr>
        <p:spPr>
          <a:xfrm>
            <a:off x="3494160" y="4272120"/>
            <a:ext cx="2590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Humnst777 BT"/>
              </a:rPr>
              <a:t>Defores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Cellular Representation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3"/>
          <p:cNvSpPr/>
          <p:nvPr/>
        </p:nvSpPr>
        <p:spPr>
          <a:xfrm>
            <a:off x="609480" y="1125360"/>
            <a:ext cx="828360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Limited by the resolution of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Limited by the computational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Depends on the process under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Resolution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29" name="Picture 1" descr=""/>
          <p:cNvPicPr/>
          <p:nvPr/>
        </p:nvPicPr>
        <p:blipFill>
          <a:blip r:embed="rId1"/>
          <a:srcRect l="0" t="10383" r="0" b="0"/>
          <a:stretch/>
        </p:blipFill>
        <p:spPr>
          <a:xfrm>
            <a:off x="1763640" y="2781360"/>
            <a:ext cx="5573880" cy="381636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2"/>
          <p:cNvSpPr/>
          <p:nvPr/>
        </p:nvSpPr>
        <p:spPr>
          <a:xfrm>
            <a:off x="421560" y="6608880"/>
            <a:ext cx="781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satimagingcorp.com/services/resources/characterization-of-satellite-remote-sensing-system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3"/>
          <p:cNvSpPr/>
          <p:nvPr/>
        </p:nvSpPr>
        <p:spPr>
          <a:xfrm>
            <a:off x="609480" y="1413000"/>
            <a:ext cx="85345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Represents a GIS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Contains a set of lay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Name a given data 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Layers might be stored in different form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Can be used to create new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Functions to manipulate geospati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Package “gis”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3"/>
          <p:cNvSpPr/>
          <p:nvPr/>
        </p:nvSpPr>
        <p:spPr>
          <a:xfrm>
            <a:off x="609480" y="1125360"/>
            <a:ext cx="828360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Creates a new attribute to the cells given an input data, a strategy, and other argu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Layer:fill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35" name="Picture 1" descr="Captura de Tela 2016-08-08 às 17.15.59.png"/>
          <p:cNvPicPr/>
          <p:nvPr/>
        </p:nvPicPr>
        <p:blipFill>
          <a:blip r:embed="rId1"/>
          <a:stretch/>
        </p:blipFill>
        <p:spPr>
          <a:xfrm>
            <a:off x="0" y="2492280"/>
            <a:ext cx="9144000" cy="34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5T08:59:46Z</dcterms:created>
  <dc:creator>Gilberto Camara</dc:creator>
  <dc:description/>
  <dc:language>en-US</dc:language>
  <cp:lastModifiedBy>Pedro R Andrade Nt</cp:lastModifiedBy>
  <cp:lastPrinted>2012-10-26T17:22:49Z</cp:lastPrinted>
  <dcterms:modified xsi:type="dcterms:W3CDTF">2020-08-28T16:58:49Z</dcterms:modified>
  <cp:revision>439</cp:revision>
  <dc:subject/>
  <dc:title>Low-carbon growth in Brazil?</dc:title>
</cp:coreProperties>
</file>